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346-B342-4A02-BA61-8170AE77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EC3-DE63-423D-BBFA-D29C5340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C28-EC78-4481-B2F2-966B5406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A99-78F9-4D4E-8005-C9DF064D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141-19B3-4C5E-AEFD-AC77B2F7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D2F-D321-4ED9-950D-81642F81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6D7-D19C-40F2-9708-92D95A08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19A-364C-4A63-B242-8C235A47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03A-FCA1-4AC1-9E1F-4F849AC5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088-86EC-4908-8DDE-92F32CE3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BFA-CCAF-4AFE-B162-7C5D70E6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000-F7A0-4B4F-8E57-D7EFD4C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8EA8-2982-431B-9F4E-C3A82B7D8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D:\d\工作表单\2019浦东搬家事宜\出口仓库新地图20200109_3.png"/>
          <p:cNvPicPr/>
          <p:nvPr/>
        </p:nvPicPr>
        <p:blipFill>
          <a:blip r:embed="rId1"/>
          <a:srcRect l="7212" t="3825" r="3535" b="3096"/>
          <a:stretch/>
        </p:blipFill>
        <p:spPr>
          <a:xfrm>
            <a:off x="2590920" y="2152800"/>
            <a:ext cx="6297480" cy="4643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228600" y="609480"/>
            <a:ext cx="289548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To:               Fax: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Attn:            Date: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贵司委托我司出运的空运货物    箱，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货物进仓编号</a:t>
            </a:r>
            <a:r>
              <a:rPr b="0" lang="zh-CN" sz="1200" spc="-1" strike="noStrike">
                <a:solidFill>
                  <a:srgbClr val="000000"/>
                </a:solidFill>
                <a:latin typeface="MingLiU"/>
                <a:ea typeface="MingLiU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MingLiU"/>
                <a:ea typeface="MingLiU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报关单证送寄编号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运单号 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Line 4"/>
          <p:cNvSpPr/>
          <p:nvPr/>
        </p:nvSpPr>
        <p:spPr>
          <a:xfrm>
            <a:off x="5745240" y="2332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14600" y="76320"/>
            <a:ext cx="37339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黑体"/>
              </a:rPr>
              <a:t>上海中太国际货运代理有限公司 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黑体"/>
              </a:rPr>
              <a:t>浦东国际机场出口货物进仓通知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黑体"/>
              </a:rPr>
              <a:t>/</a:t>
            </a:r>
            <a:r>
              <a:rPr b="1" lang="zh-CN" sz="1400" spc="-1" strike="noStrike" u="sng">
                <a:solidFill>
                  <a:srgbClr val="000000"/>
                </a:solidFill>
                <a:uFillTx/>
                <a:latin typeface="黑体"/>
              </a:rPr>
              <a:t>送单通知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Line 6"/>
          <p:cNvSpPr/>
          <p:nvPr/>
        </p:nvSpPr>
        <p:spPr>
          <a:xfrm>
            <a:off x="1554120" y="324648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114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Line 9"/>
          <p:cNvSpPr/>
          <p:nvPr/>
        </p:nvSpPr>
        <p:spPr>
          <a:xfrm>
            <a:off x="1981080" y="83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152388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352680" y="838080"/>
            <a:ext cx="5257800" cy="138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请按进仓编号将货物送到浦东新区机场镇机场大道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号普货区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区中太仓库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如有疑问可电话联系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电话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:33789083/33789084 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传真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:021-50178910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联系人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孙红贵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请按报关单证编号将报关单证送到浦东新区航城路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1279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号第二监管仓库区，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4-5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排间东边中太办公楼，并务必在单证上注明编号，否则会影响报关速度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如有商检电子换证凭条或相关随机文件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化工鉴定书等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请在传真或寄送时注明进仓编号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电话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:021-33901700/143 33901732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传真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:021-33901710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联系人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沈如捷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0" name="Line 95"/>
          <p:cNvSpPr/>
          <p:nvPr/>
        </p:nvSpPr>
        <p:spPr>
          <a:xfrm>
            <a:off x="1295280" y="16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Text Box 104"/>
          <p:cNvSpPr/>
          <p:nvPr/>
        </p:nvSpPr>
        <p:spPr>
          <a:xfrm>
            <a:off x="228600" y="2286000"/>
            <a:ext cx="1828800" cy="225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送货线路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在“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1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迎宾高速（凌空路或川南奉公路）”出口匝道下并右转，到“川六公路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机场大道”路口后左转，过“机场大道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503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跨线桥”（</a:t>
            </a:r>
            <a:r>
              <a:rPr b="0" lang="zh-CN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送货车辆此桥必过，且为由西向东单向行驶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）后，从右侧紧挨“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503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高速机场大道收费口”的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号门普货库区入口进入库区（</a:t>
            </a:r>
            <a:r>
              <a:rPr b="1" lang="zh-CN" sz="1200" spc="-1" strike="noStrike">
                <a:solidFill>
                  <a:srgbClr val="ff0000"/>
                </a:solidFill>
                <a:latin typeface="黑体"/>
                <a:ea typeface="Arial Unicode MS"/>
              </a:rPr>
              <a:t>从其他入口进入库区后果自负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）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进入库区后沿车道直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米右转，我司库区位于车道右侧第一幢第四间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Line 111"/>
          <p:cNvSpPr/>
          <p:nvPr/>
        </p:nvSpPr>
        <p:spPr>
          <a:xfrm>
            <a:off x="533520" y="838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Line 112"/>
          <p:cNvSpPr/>
          <p:nvPr/>
        </p:nvSpPr>
        <p:spPr>
          <a:xfrm>
            <a:off x="685800" y="1143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03:12:12Z</dcterms:created>
  <dc:creator>szt_user</dc:creator>
  <dc:description/>
  <dc:language>en-US</dc:language>
  <cp:lastModifiedBy>szt_user</cp:lastModifiedBy>
  <dcterms:modified xsi:type="dcterms:W3CDTF">2020-01-10T00:47:55Z</dcterms:modified>
  <cp:revision>221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